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232-F2ED-4155-9264-E658A85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917-7FAF-4C1B-97E6-3261A7F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849-2590-4C23-8469-21025DF1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5A5-993D-4EF3-A6EB-BE799F6B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1DB-ADC9-4BDC-BF2B-1C7DBA5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899-852F-4E8B-9C0D-E44F612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17F-FA41-401F-8C8A-A43E9C3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8CA-478E-4ADD-9627-EC546E2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BC5-3DC4-460B-B362-A5BAB027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5ED-9127-416C-A906-5D21942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852-697C-4F54-A661-1E0B48E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45C-51B1-48BF-BC01-C3470B37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A342-F6D4-4916-B2F7-5100C7A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15A-5D2F-4280-9D30-C04E737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36F-0D45-4EF4-9D28-FEB39566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D521-36DF-4436-8F87-A603BDC2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2D2-AD40-4D14-94D1-A59C44D9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3AE1-DA07-4D53-A3B2-D00E647B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6251-8AA7-47EF-A0CC-9157837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4CDF-0951-4849-B24F-FC22342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7027-4445-4F74-AC6C-C181876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7ED4-B947-4F52-B3DC-584C667D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009-F3BB-4359-B481-AC1BCD7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DED6-493A-46C1-8AF3-FCC3118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8F83-64B0-4244-8D50-04D8212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339C-25D9-4AA0-8434-32FDC2A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7420-9D45-410A-9F7E-BBBB12C4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B495-7C31-485E-A023-C80EE0B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41D3-E19D-45CF-9AB7-E8ADA410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68EC-1E09-4617-8D89-AABCA2CE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17A7-F25C-46ED-8E6C-F4E3F0F8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EA8D-DC00-4AAC-A084-56958FD7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05FC-6DE4-4AC4-BA4A-6049467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C55-C165-47F2-B68D-CD2021F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D3DE-F310-48C5-A24F-512C48F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3822-DBD3-4CF6-83D9-00267957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888D-FD66-4D72-B2EC-6BF03E8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1D7D-C36F-439B-9821-1A4B5DE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F873-668F-4229-9992-3987965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0437-335F-459B-8874-47187BD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8209-535D-495B-B34A-EBC7ABF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AD5D-85C7-40ED-B249-9785F3D8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B53C-3E06-425C-82AD-53397E7E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A59D-CAC1-455B-91E5-B623FE9D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7E6-77E7-4B02-8E5C-321BCE9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4EC2-9E58-473D-B97B-48CC1745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7601-C03B-4CAE-99BB-C3F16F1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FDEE0-8EEC-4E49-9615-9FF8D8EF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5C29-BC6B-4D2F-A612-E18E3E6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A9E3-247D-4A76-9199-E14CED6A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FCBA-B184-4DB8-8C04-662D355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AB7D-183C-4BD7-8A04-E44F970A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8E0D-5E8E-43BC-A806-0048874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94DF-4595-4718-AA3D-4CC38AC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3AB5-F238-4AB1-B830-BB7689BB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A6C-6C2A-4073-B84A-B2C48CF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D1BF-82D2-423C-B8B8-175E48E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43AC-C8F9-4252-91B9-D918BC11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6D3C-4801-42BE-A551-8C26E9C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3E91-C971-4170-8E01-460E093E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9639-998E-47D8-B9B2-824ABE3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71778-FC03-43BB-AF5B-EB83FAB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77E8-8EE3-42B1-821A-C0FDCA1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267F-A3D5-4E42-88D1-68BA4C5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4FF8-7681-4BC3-9D02-82CEE756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549F-6E7B-4074-A916-C76DFFA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FF1-5657-4975-8586-40D8D79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CABB-F034-4918-B8D9-42BC174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C99E-90F5-4043-B5FE-8924C9EF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5320-AC18-46F7-AE4C-2D7AC1B4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CB23-A51D-4D5F-A809-937CB5D6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A7AA8-7054-4DA5-9936-2EEF986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AC0CE-7C42-43EB-B7B8-DFB732BE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EF7A-F913-431B-B366-F693932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170A-B88F-41AF-A80F-1D975B4A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36252-39F1-43B7-9DF6-9FE7F99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5E0B-CDC9-439E-B696-A6195C7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4DB-AC24-4342-9B5A-980F9BB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2065-F708-4E06-942C-848D2F8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7D2CF-2EE5-42B5-A6B7-A64A652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1085-22E6-45DD-A9F2-870A414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EE46-CD2C-4AB7-966D-D15CE3EF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BBAE-3E05-44B0-B955-50FE9EB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12AB-A3F4-4BE9-88E8-8C1227D3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9264-6F4C-4113-AB0F-DF759C7F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ED49-F9BE-4281-9178-A672F82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A110B-A9E5-40F4-A7AB-2C02C93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4AD0-1A35-477A-B89F-F39C544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143-264A-497C-9388-41267AB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5170-63F1-4220-94C5-FC22E09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82907-1C0D-41A7-A4A9-921EEC9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A0B8-027C-4656-AA54-65A2ADF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CC2C-26D8-472C-8EB5-7D074023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930C1-1EB3-4CF4-A332-5D4877E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CBFC2-E815-44FD-ABF4-45F1DAF6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905EE-2A4D-4885-B165-2922BEF4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E00-613F-4872-9C3A-85A03EE31A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67851"/>
              </a:gs>
              <a:gs pos="50000">
                <a:srgbClr val="b1c59a"/>
              </a:gs>
              <a:gs pos="100000">
                <a:srgbClr val="66785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cbd4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86E-6486-4F6A-8BF0-E8636D38061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415E-00B6-4D0E-8047-448F7F53C4C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9DD7-FB18-4A01-8457-A06EF6E9BA0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FAF-A826-4E21-9E77-6BA41469D6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05F7-B69F-4464-B213-54DC3A17BDB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44d2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44d2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7B9-BFFA-4B8C-92BD-139A7A85DB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cbd4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39370"/>
              </a:gs>
              <a:gs pos="100000">
                <a:srgbClr val="c0ceb0"/>
              </a:gs>
            </a:gsLst>
            <a:lin ang="16200000"/>
          </a:gradFill>
          <a:ln cap="rnd" w="3240">
            <a:solidFill>
              <a:srgbClr val="78846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fa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efa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15F-1C6F-4574-933A-20FBCC8E31C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hannelview.isd.esc4.net/technology/PDF/office2007.pdf" TargetMode="External"/><Relationship Id="rId3" Type="http://schemas.openxmlformats.org/officeDocument/2006/relationships/hyperlink" Target="http://www.channelview.isd.esc4.net/technology/PDF/office2007saving.pdf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What’s New - Exce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176800" cy="561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3"/>
          <a:stretch/>
        </p:blipFill>
        <p:spPr>
          <a:xfrm>
            <a:off x="457200" y="3009960"/>
            <a:ext cx="4334040" cy="561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5448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2886120" cy="2095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857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762120" y="2895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Chart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6891480" cy="67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"/>
          <p:cNvPicPr/>
          <p:nvPr/>
        </p:nvPicPr>
        <p:blipFill>
          <a:blip r:embed="rId3"/>
          <a:stretch/>
        </p:blipFill>
        <p:spPr>
          <a:xfrm>
            <a:off x="2471760" y="5410080"/>
            <a:ext cx="5257800" cy="666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2" descr=""/>
          <p:cNvPicPr/>
          <p:nvPr/>
        </p:nvPicPr>
        <p:blipFill>
          <a:blip r:embed="rId4"/>
          <a:stretch/>
        </p:blipFill>
        <p:spPr>
          <a:xfrm>
            <a:off x="971640" y="4462560"/>
            <a:ext cx="6757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03848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3210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212840" y="6480"/>
            <a:ext cx="8089920" cy="993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2193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What’s New - Exce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380880" y="19810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larger worksheet area – more rows and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columns vi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more styles, themes,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44d26"/>
                </a:solidFill>
                <a:latin typeface="Lucida Sans Unicode"/>
              </a:rPr>
              <a:t>easier formulas and calculation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724280"/>
                <a:gridCol w="35053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x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xls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9d3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Lucida Sans Unicode"/>
                <a:hlinkClick r:id="rId2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9d3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Lucida Sans Unicode"/>
                <a:hlinkClick r:id="rId3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4"/>
          <a:srcRect l="20447" t="20674" r="15041" b="19564"/>
          <a:stretch/>
        </p:blipFill>
        <p:spPr>
          <a:xfrm>
            <a:off x="2743200" y="213372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"/>
          <p:cNvPicPr/>
          <p:nvPr/>
        </p:nvPicPr>
        <p:blipFill>
          <a:blip r:embed="rId5"/>
          <a:stretch/>
        </p:blipFill>
        <p:spPr>
          <a:xfrm>
            <a:off x="1600200" y="2133720"/>
            <a:ext cx="638280" cy="533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xlsx"/>
          <p:cNvPicPr/>
          <p:nvPr/>
        </p:nvPicPr>
        <p:blipFill>
          <a:blip r:embed="rId6"/>
          <a:stretch/>
        </p:blipFill>
        <p:spPr>
          <a:xfrm>
            <a:off x="6858000" y="2133720"/>
            <a:ext cx="552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0480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44d26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800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543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5b59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6513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7829640" cy="571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3"/>
          <a:stretch/>
        </p:blipFill>
        <p:spPr>
          <a:xfrm>
            <a:off x="609480" y="2589120"/>
            <a:ext cx="4595760" cy="571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4"/>
          <a:stretch/>
        </p:blipFill>
        <p:spPr>
          <a:xfrm>
            <a:off x="609480" y="3654360"/>
            <a:ext cx="4957920" cy="576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5700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3:52:32Z</dcterms:modified>
  <cp:revision>43</cp:revision>
  <dc:subject/>
  <dc:title>Office 2007</dc:title>
</cp:coreProperties>
</file>